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E21-ABEA-40D5-9F70-F5C489AA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D0A-AE31-41D9-844D-BEA4DD9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D86-7F68-4759-879A-15AD8F76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54D-2FBF-40E3-879D-96DC3C8E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225-1C85-471A-93AB-72C3DA52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FA4-CF1E-476C-AFAF-3892A0CE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C7F-B901-430B-8806-9693A6B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F6F-F4FE-4212-8155-5EEBB45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EBD-3157-44E0-B5D5-EC2D3B59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996-42E9-4C17-A32B-AAAF3DD0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413-50E7-45EB-8D08-390569E6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C19-A970-46E7-9DD5-3AACA517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3E16-E5EF-43F0-8123-409FCFC02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32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cience Safety</a:t>
            </a:r>
            <a:endParaRPr b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labsafety"/>
          <p:cNvPicPr/>
          <p:nvPr/>
        </p:nvPicPr>
        <p:blipFill>
          <a:blip r:embed="rId1"/>
          <a:stretch/>
        </p:blipFill>
        <p:spPr>
          <a:xfrm>
            <a:off x="2743200" y="3809880"/>
            <a:ext cx="3251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763120" cy="49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generally used as a warning of danger, particularly in regard to poisonous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way from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39621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49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s can burn and destroy body tissues on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p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off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26744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 Safe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wise to always treat unknown materials as very hazardous un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ositiv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lways reme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a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fety Contrac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udent and a parent or guardian will sign a safety con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thout a signed contract on file will not be allowed to participate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fety Contrac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whom to contact for help in case of an emergenc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Briggs in room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Ha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1 (It had better be SERIOU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eaking the Contrac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case-by-case basis, breaking the contract may result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al from the lab activity with alternate assignment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isciplinary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7848720" cy="33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fety is the Responsibility of</a:t>
            </a: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EVERYONE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Responsibilitie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safe learning activities         (Sorry we’re NOT blowing anything up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ppropriate safet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verbal and written safety instructions whenever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safety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Responsibil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ollow instructions everyday, all day, without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ad and double check all written safety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k questions when con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Safety Inform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science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ot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az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re advanced the class, the greater the possibility for safet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45268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rns &amp; Issues for OUR Cla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hazard w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mbol was created to draw attention to the need for saf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ome Ale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safety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lv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3152880" cy="358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ggle U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r goggles when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NEGOT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 LA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60640" cy="312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381880" cy="505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s that are taken to prevent or reduce the likelihood of a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se situations you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 back long h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 back loose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307120" y="3224160"/>
            <a:ext cx="3836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75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electricity can be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fo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409248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3:06:42Z</dcterms:created>
  <dc:creator>User</dc:creator>
  <dc:description/>
  <dc:language>en-US</dc:language>
  <cp:lastModifiedBy>Technology</cp:lastModifiedBy>
  <dcterms:modified xsi:type="dcterms:W3CDTF">2012-01-23T02:35:41Z</dcterms:modified>
  <cp:revision>36</cp:revision>
  <dc:subject/>
  <dc:title>Science Safety</dc:title>
</cp:coreProperties>
</file>